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oin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0E1-6D48-4B90-B850-367D1079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9F9-D8F9-47EF-9EE1-1ECE0E5E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047-709B-4C6D-9C78-07523596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0BB-0EF8-4BB5-B4DC-BA549A0F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22E-2DDC-4730-ABDE-ED7291C3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9EF-A309-4F5A-A9D4-B785086E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6A1-B7C9-461A-AE84-1AA72A6B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DE7-41EE-414B-96E0-B3A5930F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40A-9423-4CC2-BF5C-42CBFE55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77A-F5DF-4FC1-8621-39608AD9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F1B-8F0E-4794-96D2-877FEA24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9AA-A761-40EA-86F9-CC03A99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DBD5-FBBB-4844-ABA4-B42DC2A5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79640" y="620640"/>
            <a:ext cx="5038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nday 6th Octob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20500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427640" y="2133720"/>
          <a:ext cx="404172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133720"/>
                    <a:ext cx="404172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23:07:27Z</dcterms:created>
  <dc:creator>ULearn</dc:creator>
  <dc:description/>
  <dc:language>en-US</dc:language>
  <cp:lastModifiedBy>ULearn</cp:lastModifiedBy>
  <dcterms:modified xsi:type="dcterms:W3CDTF">2008-10-02T23:11:01Z</dcterms:modified>
  <cp:revision>2</cp:revision>
  <dc:subject/>
  <dc:title>Slide 1</dc:title>
</cp:coreProperties>
</file>